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C64D-6BF0-4222-9158-46F88F9C9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1C45-6ED9-46EC-BDE2-F40414A21CD7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F700-7F7D-4E64-B8AD-6BA632AA397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16CD-6B2A-4A6D-B8E1-A5F2182F4767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F31D-992E-47CB-93DA-B9FD7C2683B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B30B-4BE7-433D-AC32-AA89F94E518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1B09-BC8E-4CFF-A351-0F5CDDA918B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F424-9231-4725-ABBE-F07E03893FD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31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979C-F2EC-44B7-B726-A97C9431581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7417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47280" y="4086720"/>
            <a:ext cx="7417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8160" y="1341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47280" y="408672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348160" y="408672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55040" y="134100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2440" y="134100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47280" y="408672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55040" y="408672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2440" y="408672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47280" y="1341000"/>
            <a:ext cx="741708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7417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3619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48160" y="1341000"/>
            <a:ext cx="3619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98760" y="333000"/>
            <a:ext cx="72943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48160" y="1341000"/>
            <a:ext cx="3619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547280" y="408672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47280" y="1341000"/>
            <a:ext cx="741708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3619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48160" y="1341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48160" y="408672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48160" y="1341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47280" y="4086720"/>
            <a:ext cx="7417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7417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547280" y="4086720"/>
            <a:ext cx="7417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48160" y="1341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47280" y="408672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348160" y="408672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55040" y="134100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62440" y="134100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547280" y="408672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055040" y="408672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62440" y="4086720"/>
            <a:ext cx="238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7417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3619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348160" y="1341000"/>
            <a:ext cx="3619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98760" y="333000"/>
            <a:ext cx="72943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48160" y="1341000"/>
            <a:ext cx="3619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47280" y="408672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3619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48160" y="1341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48160" y="408672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8760" y="265680"/>
            <a:ext cx="729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47280" y="1341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48160" y="1341000"/>
            <a:ext cx="361944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47280" y="4086720"/>
            <a:ext cx="74170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8760" y="333000"/>
            <a:ext cx="72943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47280" y="1341000"/>
            <a:ext cx="7417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98760" y="333000"/>
            <a:ext cx="72943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547280" y="1341000"/>
            <a:ext cx="7417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52640" y="4587480"/>
            <a:ext cx="5632200" cy="16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Cultural Competence &amp; Capacity Building </a:t>
            </a:r>
            <a:br>
              <a:rPr sz="4500"/>
            </a:br>
            <a:br>
              <a:rPr sz="30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y: Nate Hartman, Chris Hunter, Terry Martin, &amp; Kristin Williams</a:t>
            </a:r>
            <a:br>
              <a:rPr sz="4500"/>
            </a:b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7703640" y="533412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9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371600" y="228240"/>
            <a:ext cx="7416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or and ECB to work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histo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cul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stru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context of the organiz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urpose of an ECB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build an organization’s capacity, receptiveness, and use of evaluation” (King, 200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here is ECB being use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In American Evaluation Association (2008) reported that over 54%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 organizations are utilizing ECB.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World Ban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-American Cancer Society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U.S. Center for Disease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209680" y="304920"/>
            <a:ext cx="586764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8000">
                  <a:solidFill>
                    <a:srgbClr val="0000ff"/>
                  </a:solidFill>
                  <a:miter/>
                </a:ln>
                <a:noFill/>
                <a:effectLst>
                  <a:outerShdw dist="17819" dir="8100000" blurRad="0" rotWithShape="0">
                    <a:srgbClr val="a5a5a5"/>
                  </a:outerShdw>
                </a:effectLst>
                <a:latin typeface="Curlz MT"/>
              </a:rPr>
              <a:t>Is it desirable?</a:t>
            </a:r>
            <a:endParaRPr b="1" lang="en-US" sz="1800" spc="1" strike="noStrike">
              <a:ln w="18000">
                <a:solidFill>
                  <a:srgbClr val="0000ff"/>
                </a:solidFill>
                <a:miter/>
              </a:ln>
              <a:noFill/>
              <a:effectLst>
                <a:outerShdw dist="17819" dir="8100000" blurRad="0" rotWithShape="0">
                  <a:srgbClr val="a5a5a5"/>
                </a:outerShdw>
              </a:effectLst>
              <a:latin typeface="Curlz MT"/>
              <a:ea typeface="Curlz MT"/>
            </a:endParaRPr>
          </a:p>
        </p:txBody>
      </p:sp>
      <p:pic>
        <p:nvPicPr>
          <p:cNvPr id="146" name="D 4" descr=""/>
          <p:cNvPicPr/>
          <p:nvPr/>
        </p:nvPicPr>
        <p:blipFill>
          <a:blip r:embed="rId1"/>
          <a:stretch/>
        </p:blipFill>
        <p:spPr>
          <a:xfrm>
            <a:off x="920880" y="1122480"/>
            <a:ext cx="8113680" cy="58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8760" y="333000"/>
            <a:ext cx="7294320" cy="507960"/>
          </a:xfrm>
          <a:prstGeom prst="rect">
            <a:avLst/>
          </a:prstGeom>
          <a:noFill/>
          <a:ln w="9360">
            <a:solidFill>
              <a:srgbClr val="b4682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Building Evaluation Capac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727280" y="1294920"/>
            <a:ext cx="7416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2"/>
          <p:cNvGrpSpPr/>
          <p:nvPr/>
        </p:nvGrpSpPr>
        <p:grpSpPr>
          <a:xfrm>
            <a:off x="1143000" y="1066680"/>
            <a:ext cx="7848360" cy="1066320"/>
            <a:chOff x="1143000" y="1066680"/>
            <a:chExt cx="7848360" cy="1066320"/>
          </a:xfrm>
        </p:grpSpPr>
        <p:sp>
          <p:nvSpPr>
            <p:cNvPr id="150" name="AutoShape 3"/>
            <p:cNvSpPr/>
            <p:nvPr/>
          </p:nvSpPr>
          <p:spPr>
            <a:xfrm>
              <a:off x="1497240" y="1204920"/>
              <a:ext cx="7494120" cy="84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0b05"/>
                </a:gs>
                <a:gs pos="50000">
                  <a:srgbClr val="310f06"/>
                </a:gs>
                <a:gs pos="100000">
                  <a:srgbClr val="250b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d4d4d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reate attention to new roles 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1" name="AutoShape 4"/>
            <p:cNvSpPr/>
            <p:nvPr/>
          </p:nvSpPr>
          <p:spPr>
            <a:xfrm>
              <a:off x="1143000" y="1066680"/>
              <a:ext cx="679320" cy="106632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70703"/>
                </a:gs>
                <a:gs pos="100000">
                  <a:srgbClr val="310f06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2" name="Group 2"/>
          <p:cNvGrpSpPr/>
          <p:nvPr/>
        </p:nvGrpSpPr>
        <p:grpSpPr>
          <a:xfrm>
            <a:off x="1143000" y="2514600"/>
            <a:ext cx="7848360" cy="1065960"/>
            <a:chOff x="1143000" y="2514600"/>
            <a:chExt cx="7848360" cy="1065960"/>
          </a:xfrm>
        </p:grpSpPr>
        <p:sp>
          <p:nvSpPr>
            <p:cNvPr id="153" name="AutoShape 3"/>
            <p:cNvSpPr/>
            <p:nvPr/>
          </p:nvSpPr>
          <p:spPr>
            <a:xfrm>
              <a:off x="1497240" y="2652840"/>
              <a:ext cx="7494120" cy="83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0b05"/>
                </a:gs>
                <a:gs pos="50000">
                  <a:srgbClr val="310f06"/>
                </a:gs>
                <a:gs pos="100000">
                  <a:srgbClr val="250b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uild organizational capacity, receptiveness, and use of evaluation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4" name="AutoShape 4"/>
            <p:cNvSpPr/>
            <p:nvPr/>
          </p:nvSpPr>
          <p:spPr>
            <a:xfrm>
              <a:off x="1143000" y="2514600"/>
              <a:ext cx="679320" cy="106596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0 h 1065960"/>
                <a:gd name="textAreaBottom" fmla="*/ 1066320 h 106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70703"/>
                </a:gs>
                <a:gs pos="100000">
                  <a:srgbClr val="310f06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5" name="Group 2"/>
          <p:cNvGrpSpPr/>
          <p:nvPr/>
        </p:nvGrpSpPr>
        <p:grpSpPr>
          <a:xfrm>
            <a:off x="1143000" y="4038480"/>
            <a:ext cx="7848360" cy="1066320"/>
            <a:chOff x="1143000" y="4038480"/>
            <a:chExt cx="7848360" cy="1066320"/>
          </a:xfrm>
        </p:grpSpPr>
        <p:sp>
          <p:nvSpPr>
            <p:cNvPr id="156" name="AutoShape 3"/>
            <p:cNvSpPr/>
            <p:nvPr/>
          </p:nvSpPr>
          <p:spPr>
            <a:xfrm>
              <a:off x="1497240" y="4176720"/>
              <a:ext cx="7494120" cy="84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0b05"/>
                </a:gs>
                <a:gs pos="50000">
                  <a:srgbClr val="310f06"/>
                </a:gs>
                <a:gs pos="100000">
                  <a:srgbClr val="250b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e role of evaluators are quite distinct from evaluation studies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7" name="AutoShape 4"/>
            <p:cNvSpPr/>
            <p:nvPr/>
          </p:nvSpPr>
          <p:spPr>
            <a:xfrm>
              <a:off x="1143000" y="4038480"/>
              <a:ext cx="679320" cy="106632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70703"/>
                </a:gs>
                <a:gs pos="100000">
                  <a:srgbClr val="310f06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8" name="Group 2"/>
          <p:cNvGrpSpPr/>
          <p:nvPr/>
        </p:nvGrpSpPr>
        <p:grpSpPr>
          <a:xfrm>
            <a:off x="1143000" y="5410080"/>
            <a:ext cx="7848360" cy="1066320"/>
            <a:chOff x="1143000" y="5410080"/>
            <a:chExt cx="7848360" cy="1066320"/>
          </a:xfrm>
        </p:grpSpPr>
        <p:sp>
          <p:nvSpPr>
            <p:cNvPr id="159" name="AutoShape 3"/>
            <p:cNvSpPr/>
            <p:nvPr/>
          </p:nvSpPr>
          <p:spPr>
            <a:xfrm>
              <a:off x="1497240" y="5548320"/>
              <a:ext cx="7494120" cy="84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0b05"/>
                </a:gs>
                <a:gs pos="50000">
                  <a:srgbClr val="310f06"/>
                </a:gs>
                <a:gs pos="100000">
                  <a:srgbClr val="250b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d4d4d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valuation Capacity Development Group  </a:t>
              </a: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- www.ecdg.ne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0" name="AutoShape 4"/>
            <p:cNvSpPr/>
            <p:nvPr/>
          </p:nvSpPr>
          <p:spPr>
            <a:xfrm>
              <a:off x="1143000" y="5410080"/>
              <a:ext cx="679320" cy="106632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0 h 1066320"/>
                <a:gd name="textAreaBottom" fmla="*/ 1066680 h 106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70703"/>
                </a:gs>
                <a:gs pos="100000">
                  <a:srgbClr val="310f06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8760" y="333000"/>
            <a:ext cx="729432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ltidisciplinary Model of ECB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Content Placeholder 3" descr="ECB Model.bmp"/>
          <p:cNvPicPr/>
          <p:nvPr/>
        </p:nvPicPr>
        <p:blipFill>
          <a:blip r:embed="rId1"/>
          <a:stretch/>
        </p:blipFill>
        <p:spPr>
          <a:xfrm>
            <a:off x="1219320" y="914400"/>
            <a:ext cx="774540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"/>
          <p:cNvSpPr/>
          <p:nvPr/>
        </p:nvSpPr>
        <p:spPr>
          <a:xfrm>
            <a:off x="7238880" y="658188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skill and Boyle (2008)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9468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ture of ECB-Preskill and Boy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Content Placeholder 3" descr=""/>
          <p:cNvPicPr/>
          <p:nvPr/>
        </p:nvPicPr>
        <p:blipFill>
          <a:blip r:embed="rId1"/>
          <a:stretch/>
        </p:blipFill>
        <p:spPr>
          <a:xfrm>
            <a:off x="1530360" y="1335240"/>
            <a:ext cx="745488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3"/>
          <p:cNvSpPr txBox="1"/>
          <p:nvPr/>
        </p:nvSpPr>
        <p:spPr>
          <a:xfrm>
            <a:off x="457200" y="3809880"/>
            <a:ext cx="374508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daa23a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Questions?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daa23a"/>
                  </a:gs>
                </a:gsLst>
                <a:lin ang="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7" name="WordArt 4"/>
          <p:cNvSpPr txBox="1"/>
          <p:nvPr/>
        </p:nvSpPr>
        <p:spPr>
          <a:xfrm>
            <a:off x="838080" y="4952880"/>
            <a:ext cx="3038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daa23a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.</a:t>
            </a:r>
            <a:endParaRPr b="1" lang="en-US" sz="2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daa23a"/>
                  </a:gs>
                </a:gsLst>
                <a:lin ang="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8"/>
          <p:cNvGrpSpPr/>
          <p:nvPr/>
        </p:nvGrpSpPr>
        <p:grpSpPr>
          <a:xfrm>
            <a:off x="2286000" y="3276720"/>
            <a:ext cx="1744200" cy="3352320"/>
            <a:chOff x="2286000" y="3276720"/>
            <a:chExt cx="1744200" cy="3352320"/>
          </a:xfrm>
        </p:grpSpPr>
        <p:sp>
          <p:nvSpPr>
            <p:cNvPr id="86" name="AutoShape 9"/>
            <p:cNvSpPr/>
            <p:nvPr/>
          </p:nvSpPr>
          <p:spPr>
            <a:xfrm>
              <a:off x="2286000" y="3276720"/>
              <a:ext cx="1744200" cy="3352320"/>
            </a:xfrm>
            <a:custGeom>
              <a:avLst/>
              <a:gdLst>
                <a:gd name="textAreaLeft" fmla="*/ 69840 w 1744200"/>
                <a:gd name="textAreaRight" fmla="*/ 1674360 w 1744200"/>
                <a:gd name="textAreaTop" fmla="*/ 69840 h 3352320"/>
                <a:gd name="textAreaBottom" fmla="*/ 3282480 h 3352320"/>
              </a:gdLst>
              <a:ahLst/>
              <a:rect l="textAreaLeft" t="textAreaTop" r="textAreaRight" b="textAreaBottom"/>
              <a:pathLst>
                <a:path w="21600" h="41511">
                  <a:moveTo>
                    <a:pt x="2953" y="0"/>
                  </a:moveTo>
                  <a:arcTo wR="2953" hR="2953" stAng="16200000" swAng="-5400000"/>
                  <a:lnTo>
                    <a:pt x="0" y="38558"/>
                  </a:lnTo>
                  <a:arcTo wR="2953" hR="2953" stAng="10800000" swAng="-5400000"/>
                  <a:lnTo>
                    <a:pt x="18647" y="41511"/>
                  </a:lnTo>
                  <a:arcTo wR="2953" hR="2953" stAng="5400000" swAng="-5400000"/>
                  <a:lnTo>
                    <a:pt x="21600" y="2953"/>
                  </a:lnTo>
                  <a:arcTo wR="2953" hR="2953" stAng="0" swAng="-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87" name="AutoShape 10"/>
            <p:cNvSpPr/>
            <p:nvPr/>
          </p:nvSpPr>
          <p:spPr>
            <a:xfrm rot="10800000">
              <a:off x="2297160" y="3290400"/>
              <a:ext cx="1721520" cy="1459800"/>
            </a:xfrm>
            <a:prstGeom prst="roundRect">
              <a:avLst>
                <a:gd name="adj" fmla="val 18579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88" name="Text Box 11"/>
          <p:cNvSpPr/>
          <p:nvPr/>
        </p:nvSpPr>
        <p:spPr>
          <a:xfrm>
            <a:off x="2209680" y="3429000"/>
            <a:ext cx="182880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Verdana"/>
                <a:ea typeface="Gulim"/>
              </a:rPr>
              <a:t>-</a:t>
            </a:r>
            <a:r>
              <a:rPr b="1" lang="en-US" sz="1300" spc="-1" strike="noStrike">
                <a:solidFill>
                  <a:srgbClr val="ff0000"/>
                </a:solidFill>
                <a:latin typeface="Verdana"/>
                <a:ea typeface="Gulim"/>
              </a:rPr>
              <a:t>Multicultural influences shape or are shaped by our work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Verdana"/>
                <a:ea typeface="Gulim"/>
              </a:rPr>
              <a:t>Culture Validity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Verdana"/>
                <a:ea typeface="Gulim"/>
              </a:rPr>
              <a:t>Understand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Verdana"/>
                <a:ea typeface="Gulim"/>
              </a:rPr>
              <a:t>the culture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Verdana"/>
                <a:ea typeface="Gulim"/>
              </a:rPr>
              <a:t>-</a:t>
            </a:r>
            <a:r>
              <a:rPr b="1" lang="en-US" sz="1300" spc="-1" strike="noStrike">
                <a:solidFill>
                  <a:srgbClr val="ff0000"/>
                </a:solidFill>
                <a:latin typeface="Verdana"/>
                <a:ea typeface="Gulim"/>
              </a:rPr>
              <a:t>Race, ethnicity, gender, religion, social economics </a:t>
            </a:r>
            <a:endParaRPr b="0" lang="en-US" sz="1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1981080" y="1600200"/>
            <a:ext cx="2286000" cy="1592280"/>
          </a:xfrm>
          <a:prstGeom prst="roundRect">
            <a:avLst>
              <a:gd name="adj" fmla="val 14222"/>
            </a:avLst>
          </a:prstGeom>
          <a:solidFill>
            <a:srgbClr val="310f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Karen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Kirkhar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Gulim"/>
              </a:rPr>
              <a:t>(1994)</a:t>
            </a:r>
            <a:endParaRPr b="0" lang="en-US" sz="15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AutoShape 18"/>
          <p:cNvSpPr/>
          <p:nvPr/>
        </p:nvSpPr>
        <p:spPr>
          <a:xfrm>
            <a:off x="5562720" y="1523880"/>
            <a:ext cx="2286000" cy="1744920"/>
          </a:xfrm>
          <a:prstGeom prst="roundRect">
            <a:avLst>
              <a:gd name="adj" fmla="val 14222"/>
            </a:avLst>
          </a:prstGeom>
          <a:solidFill>
            <a:srgbClr val="ef80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Gulim"/>
              </a:rPr>
              <a:t>Joint 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Gulim"/>
              </a:rPr>
              <a:t>Committee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Gulim"/>
              </a:rPr>
              <a:t>On Standards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Gulim"/>
              </a:rPr>
              <a:t>For Educational 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Gulim"/>
              </a:rPr>
              <a:t>Evaluation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1371600" y="53352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ultural Competence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5638680" y="3429000"/>
            <a:ext cx="2438280" cy="3200040"/>
            <a:chOff x="5638680" y="3429000"/>
            <a:chExt cx="2438280" cy="3200040"/>
          </a:xfrm>
        </p:grpSpPr>
        <p:sp>
          <p:nvSpPr>
            <p:cNvPr id="93" name="AutoShape 9"/>
            <p:cNvSpPr/>
            <p:nvPr/>
          </p:nvSpPr>
          <p:spPr>
            <a:xfrm>
              <a:off x="5638680" y="3429000"/>
              <a:ext cx="2438280" cy="3200040"/>
            </a:xfrm>
            <a:custGeom>
              <a:avLst/>
              <a:gdLst>
                <a:gd name="textAreaLeft" fmla="*/ 97560 w 2438280"/>
                <a:gd name="textAreaRight" fmla="*/ 2340720 w 2438280"/>
                <a:gd name="textAreaTop" fmla="*/ 97560 h 3200040"/>
                <a:gd name="textAreaBottom" fmla="*/ 3102480 h 3200040"/>
              </a:gdLst>
              <a:ahLst/>
              <a:rect l="textAreaLeft" t="textAreaTop" r="textAreaRight" b="textAreaBottom"/>
              <a:pathLst>
                <a:path w="21600" h="28347">
                  <a:moveTo>
                    <a:pt x="2953" y="0"/>
                  </a:moveTo>
                  <a:arcTo wR="2953" hR="2953" stAng="16200000" swAng="-5400000"/>
                  <a:lnTo>
                    <a:pt x="0" y="25394"/>
                  </a:lnTo>
                  <a:arcTo wR="2953" hR="2953" stAng="10800000" swAng="-5400000"/>
                  <a:lnTo>
                    <a:pt x="18647" y="28347"/>
                  </a:lnTo>
                  <a:arcTo wR="2953" hR="2953" stAng="5400000" swAng="-5400000"/>
                  <a:lnTo>
                    <a:pt x="21600" y="2953"/>
                  </a:lnTo>
                  <a:arcTo wR="2953" hR="2953" stAng="0" swAng="-5400000"/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4" name="AutoShape 10"/>
            <p:cNvSpPr/>
            <p:nvPr/>
          </p:nvSpPr>
          <p:spPr>
            <a:xfrm>
              <a:off x="5638680" y="3885120"/>
              <a:ext cx="2360520" cy="2133360"/>
            </a:xfrm>
            <a:prstGeom prst="roundRect">
              <a:avLst>
                <a:gd name="adj" fmla="val 18579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206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Evaluator Credibility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buClr>
                  <a:srgbClr val="00206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buClr>
                  <a:srgbClr val="00206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Explicit Values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buClr>
                  <a:srgbClr val="00206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buClr>
                  <a:srgbClr val="00206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Cultural Viability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buClr>
                  <a:srgbClr val="00206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buClr>
                  <a:srgbClr val="00206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Formal Agreements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buClr>
                  <a:srgbClr val="00206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buClr>
                  <a:srgbClr val="00206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Justified Conclusions 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&amp; Decisions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2"/>
          <p:cNvSpPr/>
          <p:nvPr/>
        </p:nvSpPr>
        <p:spPr>
          <a:xfrm flipH="1">
            <a:off x="539640" y="4686480"/>
            <a:ext cx="1224000" cy="828360"/>
          </a:xfrm>
          <a:prstGeom prst="ellipse">
            <a:avLst/>
          </a:prstGeom>
          <a:gradFill rotWithShape="0">
            <a:gsLst>
              <a:gs pos="0">
                <a:srgbClr val="ffffff">
                  <a:alpha val="42352"/>
                </a:srgbClr>
              </a:gs>
              <a:gs pos="100000">
                <a:srgbClr val="ea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AutoShape 17"/>
          <p:cNvSpPr/>
          <p:nvPr/>
        </p:nvSpPr>
        <p:spPr>
          <a:xfrm>
            <a:off x="1371600" y="2971800"/>
            <a:ext cx="7543800" cy="1295280"/>
          </a:xfrm>
          <a:prstGeom prst="roundRect">
            <a:avLst>
              <a:gd name="adj" fmla="val 14222"/>
            </a:avLst>
          </a:prstGeom>
          <a:solidFill>
            <a:srgbClr val="310f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Gulim"/>
              </a:rPr>
              <a:t>Cultural Viability- Recognizing, monitoring, and balancing cultural &amp; political interests 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1371600" y="304920"/>
            <a:ext cx="7467480" cy="1066680"/>
          </a:xfrm>
          <a:prstGeom prst="roundRect">
            <a:avLst>
              <a:gd name="adj" fmla="val 14222"/>
            </a:avLst>
          </a:prstGeom>
          <a:solidFill>
            <a:srgbClr val="ef80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Gulim"/>
              </a:rPr>
              <a:t>Evaluator Credibility- Credibility in the context of program &amp; evaluation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AutoShape 23"/>
          <p:cNvSpPr/>
          <p:nvPr/>
        </p:nvSpPr>
        <p:spPr>
          <a:xfrm>
            <a:off x="1371600" y="1600200"/>
            <a:ext cx="7543800" cy="1143000"/>
          </a:xfrm>
          <a:prstGeom prst="roundRect">
            <a:avLst>
              <a:gd name="adj" fmla="val 14222"/>
            </a:avLst>
          </a:prstGeom>
          <a:solidFill>
            <a:srgbClr val="daa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Gulim"/>
              </a:rPr>
              <a:t>Explicit Values- clarification of specific cultural values reinforcing purpose, process, &amp; judgments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AutoShape 20"/>
          <p:cNvSpPr/>
          <p:nvPr/>
        </p:nvSpPr>
        <p:spPr>
          <a:xfrm>
            <a:off x="1371600" y="4419720"/>
            <a:ext cx="7467480" cy="1066680"/>
          </a:xfrm>
          <a:prstGeom prst="roundRect">
            <a:avLst>
              <a:gd name="adj" fmla="val 1422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Gulim"/>
              </a:rPr>
              <a:t>Formal Agreements- Consideration of cultural contexts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1371600" y="5638680"/>
            <a:ext cx="7467480" cy="1067040"/>
          </a:xfrm>
          <a:prstGeom prst="roundRect">
            <a:avLst>
              <a:gd name="adj" fmla="val 14222"/>
            </a:avLst>
          </a:prstGeom>
          <a:solidFill>
            <a:srgbClr val="ef80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  <a:ea typeface="Gulim"/>
              </a:rPr>
              <a:t>Justified Conclusions &amp; Decisions- Justified in the culture and context where they have consequences</a:t>
            </a:r>
            <a:endParaRPr b="0" lang="en-US" sz="23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-228600"/>
            <a:ext cx="729468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y is it important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066320"/>
            <a:ext cx="7416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ssist evaluator with the issues of concern to the stakehold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multiple perspectiv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llect valid data, sensitive to the norms, perspectives, and belief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alyze and interpret data to achieve valid resul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crease the legitimacy of the evaluation for all stakehold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crease the usefulness and use of the resul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ognize problems with inequality/ Improve Social equality and democratic values in the way the evaluation was conduct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5638680" y="4114800"/>
            <a:ext cx="3352320" cy="2314440"/>
            <a:chOff x="5638680" y="4114800"/>
            <a:chExt cx="3352320" cy="2314440"/>
          </a:xfrm>
        </p:grpSpPr>
        <p:sp>
          <p:nvSpPr>
            <p:cNvPr id="104" name="AutoShape 3"/>
            <p:cNvSpPr/>
            <p:nvPr/>
          </p:nvSpPr>
          <p:spPr>
            <a:xfrm>
              <a:off x="5638680" y="4114800"/>
              <a:ext cx="3352320" cy="2314440"/>
            </a:xfrm>
            <a:prstGeom prst="roundRect">
              <a:avLst>
                <a:gd name="adj" fmla="val 13671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5" name="AutoShape 4"/>
            <p:cNvSpPr/>
            <p:nvPr/>
          </p:nvSpPr>
          <p:spPr>
            <a:xfrm rot="10800000">
              <a:off x="5660280" y="4123800"/>
              <a:ext cx="3305520" cy="1007640"/>
            </a:xfrm>
            <a:prstGeom prst="roundRect">
              <a:avLst>
                <a:gd name="adj" fmla="val 18579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1371600" y="3809880"/>
            <a:ext cx="3962160" cy="3047760"/>
            <a:chOff x="1371600" y="3809880"/>
            <a:chExt cx="3962160" cy="3047760"/>
          </a:xfrm>
        </p:grpSpPr>
        <p:sp>
          <p:nvSpPr>
            <p:cNvPr id="107" name="AutoShape 9"/>
            <p:cNvSpPr/>
            <p:nvPr/>
          </p:nvSpPr>
          <p:spPr>
            <a:xfrm>
              <a:off x="1371600" y="3809880"/>
              <a:ext cx="3962160" cy="3047760"/>
            </a:xfrm>
            <a:prstGeom prst="roundRect">
              <a:avLst>
                <a:gd name="adj" fmla="val 13671"/>
              </a:avLst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8" name="AutoShape 10"/>
            <p:cNvSpPr/>
            <p:nvPr/>
          </p:nvSpPr>
          <p:spPr>
            <a:xfrm>
              <a:off x="1371600" y="4495680"/>
              <a:ext cx="3872520" cy="1326960"/>
            </a:xfrm>
            <a:prstGeom prst="roundRect">
              <a:avLst>
                <a:gd name="adj" fmla="val 18579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d4d4d"/>
                  </a:solidFill>
                  <a:latin typeface="Arial"/>
                </a:rPr>
                <a:t>-</a:t>
              </a: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Process use, illustrate the impac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buClr>
                  <a:srgbClr val="00206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Evaluators recognized impact 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changes about themselves 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-The evaluative ways of thinking abou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the employees in the organization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060"/>
                  </a:solidFill>
                  <a:latin typeface="Arial"/>
                </a:rPr>
                <a:t>-Learning, influenced the organization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09" name="Text Box 15"/>
          <p:cNvSpPr/>
          <p:nvPr/>
        </p:nvSpPr>
        <p:spPr>
          <a:xfrm>
            <a:off x="1447920" y="4038480"/>
            <a:ext cx="17366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AutoShape 22"/>
          <p:cNvSpPr/>
          <p:nvPr/>
        </p:nvSpPr>
        <p:spPr>
          <a:xfrm>
            <a:off x="1981080" y="1828800"/>
            <a:ext cx="2286000" cy="1828800"/>
          </a:xfrm>
          <a:prstGeom prst="roundRect">
            <a:avLst>
              <a:gd name="adj" fmla="val 14222"/>
            </a:avLst>
          </a:prstGeom>
          <a:solidFill>
            <a:srgbClr val="310f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Michael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Patton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AutoShape 28"/>
          <p:cNvSpPr/>
          <p:nvPr/>
        </p:nvSpPr>
        <p:spPr>
          <a:xfrm>
            <a:off x="5943600" y="1905120"/>
            <a:ext cx="2743200" cy="1752480"/>
          </a:xfrm>
          <a:prstGeom prst="roundRect">
            <a:avLst>
              <a:gd name="adj" fmla="val 14222"/>
            </a:avLst>
          </a:prstGeom>
          <a:solidFill>
            <a:srgbClr val="daa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Evaluation’s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Gulim"/>
              </a:rPr>
              <a:t>role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Text Box 30"/>
          <p:cNvSpPr/>
          <p:nvPr/>
        </p:nvSpPr>
        <p:spPr>
          <a:xfrm>
            <a:off x="1295280" y="0"/>
            <a:ext cx="746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ffects an Evaluation has on an Organization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Text Box 32"/>
          <p:cNvSpPr/>
          <p:nvPr/>
        </p:nvSpPr>
        <p:spPr>
          <a:xfrm>
            <a:off x="5715000" y="4471920"/>
            <a:ext cx="32004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Gulim"/>
              </a:rPr>
              <a:t>Evaluations, more popula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Gulim"/>
              </a:rPr>
              <a:t>Accountabilit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Gulim"/>
              </a:rPr>
              <a:t>Collect &amp; Report evaluative dat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Rectangle 17"/>
          <p:cNvSpPr/>
          <p:nvPr/>
        </p:nvSpPr>
        <p:spPr>
          <a:xfrm>
            <a:off x="9524880" y="373392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Accountability increased in the last decad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With those requirements, more responsibilities for agency employe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"/>
          <p:cNvGrpSpPr/>
          <p:nvPr/>
        </p:nvGrpSpPr>
        <p:grpSpPr>
          <a:xfrm>
            <a:off x="1295280" y="914400"/>
            <a:ext cx="7848360" cy="1599120"/>
            <a:chOff x="1295280" y="914400"/>
            <a:chExt cx="7848360" cy="1599120"/>
          </a:xfrm>
        </p:grpSpPr>
        <p:sp>
          <p:nvSpPr>
            <p:cNvPr id="116" name="AutoShape 3"/>
            <p:cNvSpPr/>
            <p:nvPr/>
          </p:nvSpPr>
          <p:spPr>
            <a:xfrm>
              <a:off x="1649520" y="1121760"/>
              <a:ext cx="7494120" cy="1260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0b05"/>
                </a:gs>
                <a:gs pos="50000">
                  <a:srgbClr val="310f06"/>
                </a:gs>
                <a:gs pos="100000">
                  <a:srgbClr val="250b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17" name="AutoShape 4"/>
            <p:cNvSpPr/>
            <p:nvPr/>
          </p:nvSpPr>
          <p:spPr>
            <a:xfrm>
              <a:off x="1295280" y="914400"/>
              <a:ext cx="679320" cy="1599120"/>
            </a:xfrm>
            <a:custGeom>
              <a:avLst/>
              <a:gdLst>
                <a:gd name="textAreaLeft" fmla="*/ 0 w 679320"/>
                <a:gd name="textAreaRight" fmla="*/ 679680 w 679320"/>
                <a:gd name="textAreaTop" fmla="*/ 0 h 1599120"/>
                <a:gd name="textAreaBottom" fmla="*/ 1599480 h 159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70703"/>
                </a:gs>
                <a:gs pos="100000">
                  <a:srgbClr val="310f06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8" name="Group 5"/>
          <p:cNvGrpSpPr/>
          <p:nvPr/>
        </p:nvGrpSpPr>
        <p:grpSpPr>
          <a:xfrm>
            <a:off x="1295280" y="2819520"/>
            <a:ext cx="7619760" cy="818640"/>
            <a:chOff x="1295280" y="2819520"/>
            <a:chExt cx="7619760" cy="818640"/>
          </a:xfrm>
        </p:grpSpPr>
        <p:sp>
          <p:nvSpPr>
            <p:cNvPr id="119" name="AutoShape 6"/>
            <p:cNvSpPr/>
            <p:nvPr/>
          </p:nvSpPr>
          <p:spPr>
            <a:xfrm>
              <a:off x="1599120" y="2914920"/>
              <a:ext cx="7315920" cy="644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84f1a"/>
                </a:gs>
                <a:gs pos="50000">
                  <a:srgbClr val="b46822"/>
                </a:gs>
                <a:gs pos="100000">
                  <a:srgbClr val="884f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>
              <a:off x="1295280" y="2819520"/>
              <a:ext cx="663120" cy="818640"/>
            </a:xfrm>
            <a:custGeom>
              <a:avLst/>
              <a:gdLst>
                <a:gd name="textAreaLeft" fmla="*/ 0 w 663120"/>
                <a:gd name="textAreaRight" fmla="*/ 663480 w 66312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33010"/>
                </a:gs>
                <a:gs pos="100000">
                  <a:srgbClr val="b46822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1" name="Group 8"/>
          <p:cNvGrpSpPr/>
          <p:nvPr/>
        </p:nvGrpSpPr>
        <p:grpSpPr>
          <a:xfrm>
            <a:off x="1295280" y="3886200"/>
            <a:ext cx="7543080" cy="801360"/>
            <a:chOff x="1295280" y="3886200"/>
            <a:chExt cx="7543080" cy="801360"/>
          </a:xfrm>
        </p:grpSpPr>
        <p:sp>
          <p:nvSpPr>
            <p:cNvPr id="122" name="AutoShape 9"/>
            <p:cNvSpPr/>
            <p:nvPr/>
          </p:nvSpPr>
          <p:spPr>
            <a:xfrm>
              <a:off x="1635480" y="3987360"/>
              <a:ext cx="7202880" cy="631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6622"/>
                </a:gs>
                <a:gs pos="50000">
                  <a:srgbClr val="ef802b"/>
                </a:gs>
                <a:gs pos="100000">
                  <a:srgbClr val="bf662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3" name="AutoShape 10"/>
            <p:cNvSpPr/>
            <p:nvPr/>
          </p:nvSpPr>
          <p:spPr>
            <a:xfrm>
              <a:off x="1295280" y="3886200"/>
              <a:ext cx="653040" cy="801360"/>
            </a:xfrm>
            <a:custGeom>
              <a:avLst/>
              <a:gdLst>
                <a:gd name="textAreaLeft" fmla="*/ 0 w 653040"/>
                <a:gd name="textAreaRight" fmla="*/ 653400 w 653040"/>
                <a:gd name="textAreaTop" fmla="*/ 0 h 801360"/>
                <a:gd name="textAreaBottom" fmla="*/ 801720 h 80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f3b14"/>
                </a:gs>
                <a:gs pos="100000">
                  <a:srgbClr val="ef802b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4" name="Group 11"/>
          <p:cNvGrpSpPr/>
          <p:nvPr/>
        </p:nvGrpSpPr>
        <p:grpSpPr>
          <a:xfrm>
            <a:off x="1295280" y="4876920"/>
            <a:ext cx="7696080" cy="1675080"/>
            <a:chOff x="1295280" y="4876920"/>
            <a:chExt cx="7696080" cy="1675080"/>
          </a:xfrm>
        </p:grpSpPr>
        <p:sp>
          <p:nvSpPr>
            <p:cNvPr id="125" name="AutoShape 12"/>
            <p:cNvSpPr/>
            <p:nvPr/>
          </p:nvSpPr>
          <p:spPr>
            <a:xfrm>
              <a:off x="1589040" y="5077080"/>
              <a:ext cx="7402320" cy="1319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57b2c"/>
                </a:gs>
                <a:gs pos="50000">
                  <a:srgbClr val="daa23a"/>
                </a:gs>
                <a:gs pos="100000">
                  <a:srgbClr val="a57b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26" name="AutoShape 13"/>
            <p:cNvSpPr/>
            <p:nvPr/>
          </p:nvSpPr>
          <p:spPr>
            <a:xfrm>
              <a:off x="1295280" y="4876920"/>
              <a:ext cx="671040" cy="167508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1675080"/>
                <a:gd name="textAreaBottom" fmla="*/ 1675440 h 167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54b1b"/>
                </a:gs>
                <a:gs pos="100000">
                  <a:srgbClr val="daa23a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27" name="AutoShape 14"/>
          <p:cNvSpPr/>
          <p:nvPr/>
        </p:nvSpPr>
        <p:spPr>
          <a:xfrm>
            <a:off x="2133720" y="1447920"/>
            <a:ext cx="32400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Recognition- evaluation has an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impact beyond program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AutoShape 15"/>
          <p:cNvSpPr/>
          <p:nvPr/>
        </p:nvSpPr>
        <p:spPr>
          <a:xfrm>
            <a:off x="1905120" y="2971800"/>
            <a:ext cx="32400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Evaluate how to make decision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AutoShape 16"/>
          <p:cNvSpPr/>
          <p:nvPr/>
        </p:nvSpPr>
        <p:spPr>
          <a:xfrm>
            <a:off x="1981080" y="4038480"/>
            <a:ext cx="4638960" cy="480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Gulim"/>
              </a:rPr>
              <a:t>Impact on Organization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AutoShape 17"/>
          <p:cNvSpPr/>
          <p:nvPr/>
        </p:nvSpPr>
        <p:spPr>
          <a:xfrm>
            <a:off x="1981080" y="5486400"/>
            <a:ext cx="309564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2 Discussions: Mainstream Evaluation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&amp; Build Evaluative Capacity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Text Box 50"/>
          <p:cNvSpPr/>
          <p:nvPr/>
        </p:nvSpPr>
        <p:spPr>
          <a:xfrm>
            <a:off x="762120" y="3049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valuation’s Roles: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3"/>
          <p:cNvSpPr/>
          <p:nvPr/>
        </p:nvSpPr>
        <p:spPr>
          <a:xfrm>
            <a:off x="685800" y="2057400"/>
            <a:ext cx="2057400" cy="3048120"/>
          </a:xfrm>
          <a:custGeom>
            <a:avLst/>
            <a:gdLst>
              <a:gd name="textAreaLeft" fmla="*/ 85680 w 2057400"/>
              <a:gd name="textAreaRight" fmla="*/ 1971720 w 2057400"/>
              <a:gd name="textAreaTop" fmla="*/ 85680 h 3048120"/>
              <a:gd name="textAreaBottom" fmla="*/ 2962440 h 3048120"/>
            </a:gdLst>
            <a:ahLst/>
            <a:rect l="textAreaLeft" t="textAreaTop" r="textAreaRight" b="textAreaBottom"/>
            <a:pathLst>
              <a:path w="21600" h="31999">
                <a:moveTo>
                  <a:pt x="3072" y="0"/>
                </a:moveTo>
                <a:arcTo wR="3072" hR="3072" stAng="16200000" swAng="-5400000"/>
                <a:lnTo>
                  <a:pt x="0" y="28927"/>
                </a:lnTo>
                <a:arcTo wR="3072" hR="3072" stAng="10800000" swAng="-5400000"/>
                <a:lnTo>
                  <a:pt x="18528" y="31999"/>
                </a:lnTo>
                <a:arcTo wR="3072" hR="3072" stAng="5400000" swAng="-5400000"/>
                <a:lnTo>
                  <a:pt x="21600" y="3072"/>
                </a:lnTo>
                <a:arcTo wR="3072" hR="3072" stAng="0" swAng="-5400000"/>
                <a:close/>
              </a:path>
            </a:pathLst>
          </a:custGeom>
          <a:solidFill>
            <a:srgbClr val="b468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Teacher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make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course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recommend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990720" y="1066680"/>
            <a:ext cx="2663640" cy="1513080"/>
          </a:xfrm>
          <a:custGeom>
            <a:avLst/>
            <a:gdLst>
              <a:gd name="textAreaLeft" fmla="*/ 389880 w 2663640"/>
              <a:gd name="textAreaRight" fmla="*/ 2273760 w 2663640"/>
              <a:gd name="textAreaTop" fmla="*/ 221400 h 1513080"/>
              <a:gd name="textAreaBottom" fmla="*/ 1291680 h 1513080"/>
            </a:gdLst>
            <a:ahLst/>
            <a:rect l="textAreaLeft" t="textAreaTop" r="textAreaRight" b="textAreaBottom"/>
            <a:pathLst>
              <a:path w="21600" h="21600">
                <a:moveTo>
                  <a:pt x="17325" y="7865"/>
                </a:moveTo>
                <a:cubicBezTo>
                  <a:pt x="16170" y="5296"/>
                  <a:pt x="13616" y="3645"/>
                  <a:pt x="10800" y="3645"/>
                </a:cubicBezTo>
                <a:cubicBezTo>
                  <a:pt x="6981" y="3644"/>
                  <a:pt x="3836" y="6642"/>
                  <a:pt x="3653" y="10456"/>
                </a:cubicBezTo>
                <a:lnTo>
                  <a:pt x="12" y="10281"/>
                </a:lnTo>
                <a:cubicBezTo>
                  <a:pt x="289" y="4525"/>
                  <a:pt x="5036" y="-1"/>
                  <a:pt x="10800" y="0"/>
                </a:cubicBezTo>
                <a:cubicBezTo>
                  <a:pt x="15050" y="0"/>
                  <a:pt x="18906" y="2493"/>
                  <a:pt x="20649" y="6370"/>
                </a:cubicBezTo>
                <a:lnTo>
                  <a:pt x="23112" y="5262"/>
                </a:lnTo>
                <a:lnTo>
                  <a:pt x="20843" y="11242"/>
                </a:lnTo>
                <a:lnTo>
                  <a:pt x="14863" y="8972"/>
                </a:lnTo>
                <a:lnTo>
                  <a:pt x="17325" y="7865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acac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 flipV="1">
            <a:off x="3200400" y="4419000"/>
            <a:ext cx="2664000" cy="1439640"/>
          </a:xfrm>
          <a:custGeom>
            <a:avLst/>
            <a:gdLst>
              <a:gd name="textAreaLeft" fmla="*/ 389880 w 2664000"/>
              <a:gd name="textAreaRight" fmla="*/ 2274120 w 2664000"/>
              <a:gd name="textAreaTop" fmla="*/ 210600 h 1439640"/>
              <a:gd name="textAreaBottom" fmla="*/ 1229040 h 1439640"/>
            </a:gdLst>
            <a:ahLst/>
            <a:rect l="textAreaLeft" t="textAreaTop" r="textAreaRight" b="textAreaBottom"/>
            <a:pathLst>
              <a:path w="21600" h="21600">
                <a:moveTo>
                  <a:pt x="17325" y="7865"/>
                </a:moveTo>
                <a:cubicBezTo>
                  <a:pt x="16170" y="5296"/>
                  <a:pt x="13616" y="3645"/>
                  <a:pt x="10800" y="3645"/>
                </a:cubicBezTo>
                <a:cubicBezTo>
                  <a:pt x="6981" y="3644"/>
                  <a:pt x="3836" y="6642"/>
                  <a:pt x="3653" y="10456"/>
                </a:cubicBezTo>
                <a:lnTo>
                  <a:pt x="12" y="10281"/>
                </a:lnTo>
                <a:cubicBezTo>
                  <a:pt x="289" y="4525"/>
                  <a:pt x="5036" y="-1"/>
                  <a:pt x="10800" y="0"/>
                </a:cubicBezTo>
                <a:cubicBezTo>
                  <a:pt x="15050" y="0"/>
                  <a:pt x="18906" y="2493"/>
                  <a:pt x="20649" y="6370"/>
                </a:cubicBezTo>
                <a:lnTo>
                  <a:pt x="23112" y="5262"/>
                </a:lnTo>
                <a:lnTo>
                  <a:pt x="20843" y="11242"/>
                </a:lnTo>
                <a:lnTo>
                  <a:pt x="14863" y="8972"/>
                </a:lnTo>
                <a:lnTo>
                  <a:pt x="17325" y="7865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acac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5791320" y="1066680"/>
            <a:ext cx="2663640" cy="1513080"/>
          </a:xfrm>
          <a:custGeom>
            <a:avLst/>
            <a:gdLst>
              <a:gd name="textAreaLeft" fmla="*/ 389880 w 2663640"/>
              <a:gd name="textAreaRight" fmla="*/ 2273760 w 2663640"/>
              <a:gd name="textAreaTop" fmla="*/ 221400 h 1513080"/>
              <a:gd name="textAreaBottom" fmla="*/ 1291680 h 1513080"/>
            </a:gdLst>
            <a:ahLst/>
            <a:rect l="textAreaLeft" t="textAreaTop" r="textAreaRight" b="textAreaBottom"/>
            <a:pathLst>
              <a:path w="21600" h="21600">
                <a:moveTo>
                  <a:pt x="17325" y="7865"/>
                </a:moveTo>
                <a:cubicBezTo>
                  <a:pt x="16170" y="5296"/>
                  <a:pt x="13616" y="3645"/>
                  <a:pt x="10800" y="3645"/>
                </a:cubicBezTo>
                <a:cubicBezTo>
                  <a:pt x="6981" y="3644"/>
                  <a:pt x="3836" y="6642"/>
                  <a:pt x="3653" y="10456"/>
                </a:cubicBezTo>
                <a:lnTo>
                  <a:pt x="12" y="10281"/>
                </a:lnTo>
                <a:cubicBezTo>
                  <a:pt x="289" y="4525"/>
                  <a:pt x="5036" y="-1"/>
                  <a:pt x="10800" y="0"/>
                </a:cubicBezTo>
                <a:cubicBezTo>
                  <a:pt x="15050" y="0"/>
                  <a:pt x="18906" y="2493"/>
                  <a:pt x="20649" y="6370"/>
                </a:cubicBezTo>
                <a:lnTo>
                  <a:pt x="23112" y="5262"/>
                </a:lnTo>
                <a:lnTo>
                  <a:pt x="20843" y="11242"/>
                </a:lnTo>
                <a:lnTo>
                  <a:pt x="14863" y="8972"/>
                </a:lnTo>
                <a:lnTo>
                  <a:pt x="17325" y="7865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acac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 rot="16200000">
            <a:off x="4290480" y="-2212920"/>
            <a:ext cx="139932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Gulim"/>
              </a:rPr>
              <a:t>The Course Selection Process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AutoShape 12"/>
          <p:cNvSpPr/>
          <p:nvPr/>
        </p:nvSpPr>
        <p:spPr>
          <a:xfrm>
            <a:off x="2895480" y="2133720"/>
            <a:ext cx="2057400" cy="2895480"/>
          </a:xfrm>
          <a:custGeom>
            <a:avLst/>
            <a:gdLst>
              <a:gd name="textAreaLeft" fmla="*/ 85680 w 2057400"/>
              <a:gd name="textAreaRight" fmla="*/ 1971720 w 2057400"/>
              <a:gd name="textAreaTop" fmla="*/ 85680 h 2895480"/>
              <a:gd name="textAreaBottom" fmla="*/ 2809800 h 2895480"/>
            </a:gdLst>
            <a:ahLst/>
            <a:rect l="textAreaLeft" t="textAreaTop" r="textAreaRight" b="textAreaBottom"/>
            <a:pathLst>
              <a:path w="21600" h="30397">
                <a:moveTo>
                  <a:pt x="3072" y="0"/>
                </a:moveTo>
                <a:arcTo wR="3072" hR="3072" stAng="16200000" swAng="-5400000"/>
                <a:lnTo>
                  <a:pt x="0" y="27325"/>
                </a:lnTo>
                <a:arcTo wR="3072" hR="3072" stAng="10800000" swAng="-5400000"/>
                <a:lnTo>
                  <a:pt x="18528" y="30397"/>
                </a:lnTo>
                <a:arcTo wR="3072" hR="3072" stAng="5400000" swAng="-5400000"/>
                <a:lnTo>
                  <a:pt x="21600" y="3072"/>
                </a:lnTo>
                <a:arcTo wR="3072" hR="3072" stAng="0" swAng="-5400000"/>
                <a:close/>
              </a:path>
            </a:pathLst>
          </a:custGeom>
          <a:solidFill>
            <a:srgbClr val="310f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tudent tak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course request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form ho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AutoShape 15"/>
          <p:cNvSpPr/>
          <p:nvPr/>
        </p:nvSpPr>
        <p:spPr>
          <a:xfrm>
            <a:off x="5105520" y="2133720"/>
            <a:ext cx="1981080" cy="2819160"/>
          </a:xfrm>
          <a:custGeom>
            <a:avLst/>
            <a:gdLst>
              <a:gd name="textAreaLeft" fmla="*/ 82440 w 1981080"/>
              <a:gd name="textAreaRight" fmla="*/ 1898640 w 1981080"/>
              <a:gd name="textAreaTop" fmla="*/ 82440 h 2819160"/>
              <a:gd name="textAreaBottom" fmla="*/ 2736720 h 2819160"/>
            </a:gdLst>
            <a:ahLst/>
            <a:rect l="textAreaLeft" t="textAreaTop" r="textAreaRight" b="textAreaBottom"/>
            <a:pathLst>
              <a:path w="21600" h="30736">
                <a:moveTo>
                  <a:pt x="3072" y="0"/>
                </a:moveTo>
                <a:arcTo wR="3072" hR="3072" stAng="16200000" swAng="-5400000"/>
                <a:lnTo>
                  <a:pt x="0" y="27664"/>
                </a:lnTo>
                <a:arcTo wR="3072" hR="3072" stAng="10800000" swAng="-5400000"/>
                <a:lnTo>
                  <a:pt x="18528" y="30736"/>
                </a:lnTo>
                <a:arcTo wR="3072" hR="3072" stAng="5400000" swAng="-5400000"/>
                <a:lnTo>
                  <a:pt x="21600" y="3072"/>
                </a:lnTo>
                <a:arcTo wR="3072" hR="3072" stAng="0" swAng="-5400000"/>
                <a:close/>
              </a:path>
            </a:pathLst>
          </a:custGeom>
          <a:solidFill>
            <a:srgbClr val="ef80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Parent reviews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igns, and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retur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7238880" y="2209680"/>
            <a:ext cx="1905120" cy="2667240"/>
          </a:xfrm>
          <a:custGeom>
            <a:avLst/>
            <a:gdLst>
              <a:gd name="textAreaLeft" fmla="*/ 79200 w 1905120"/>
              <a:gd name="textAreaRight" fmla="*/ 1825920 w 1905120"/>
              <a:gd name="textAreaTop" fmla="*/ 79200 h 2667240"/>
              <a:gd name="textAreaBottom" fmla="*/ 2588040 h 2667240"/>
            </a:gdLst>
            <a:ahLst/>
            <a:rect l="textAreaLeft" t="textAreaTop" r="textAreaRight" b="textAreaBottom"/>
            <a:pathLst>
              <a:path w="21600" h="30239">
                <a:moveTo>
                  <a:pt x="3072" y="0"/>
                </a:moveTo>
                <a:arcTo wR="3072" hR="3072" stAng="16200000" swAng="-5400000"/>
                <a:lnTo>
                  <a:pt x="0" y="27167"/>
                </a:lnTo>
                <a:arcTo wR="3072" hR="3072" stAng="10800000" swAng="-5400000"/>
                <a:lnTo>
                  <a:pt x="18528" y="30239"/>
                </a:lnTo>
                <a:arcTo wR="3072" hR="3072" stAng="5400000" swAng="-5400000"/>
                <a:lnTo>
                  <a:pt x="21600" y="3072"/>
                </a:lnTo>
                <a:arcTo wR="3072" hR="3072" stAng="0" swAng="-5400000"/>
                <a:close/>
              </a:path>
            </a:pathLst>
          </a:custGeom>
          <a:solidFill>
            <a:srgbClr val="daa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Middle school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counselor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review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and sends to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high schoo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15328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do we mean by mainstreaming evaluation or evaluation capacity building?  Is it desirable?</a:t>
            </a:r>
            <a:br>
              <a:rPr sz="3000"/>
            </a:b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46320" y="1447920"/>
            <a:ext cx="789768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Mainstreaming Evalu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anders (2002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scussed that it is an integral part of an organization’s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ail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oper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culture and responsibilities at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leve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uignan and Wandersman(2003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to be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dapte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o school setting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veryda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decision-making pro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vides opportunity for empower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orking definitio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instreaming evaluation is 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hat involves people at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ll level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on 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ail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basis to make informed decisions.  (RTI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98760" y="333000"/>
            <a:ext cx="729432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valuation Capacity Building: 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23520" y="837720"/>
            <a:ext cx="7417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ckdill (200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guided practices and processes for bringing about and sustaining a state of affairs in which quality program evaluation and i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pri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din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go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actices within and/or between one or more organizations/programs/site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B vs. Traditi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C are ongoing a person involves to assure the environment is “conducive” to evaluation and is being used within the 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evaluation system usually are a one shot evaluation of a program or poli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3:10:30Z</dcterms:created>
  <dc:creator>PoweredTemplates.com</dc:creator>
  <dc:description/>
  <dc:language>en-US</dc:language>
  <cp:lastModifiedBy>rschultz</cp:lastModifiedBy>
  <dcterms:modified xsi:type="dcterms:W3CDTF">2011-03-09T23:10:36Z</dcterms:modified>
  <cp:revision>92</cp:revision>
  <dc:subject/>
  <dc:title>PowerPoint Template</dc:title>
</cp:coreProperties>
</file>